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2A75-A737-4E0C-B9C3-AA8E182CF0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97EC-223A-47BD-87C0-CB69B342E4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71DE-F2B4-44A4-B600-380C627BE9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7B3-2575-4AA4-BA98-9FA9C29F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C01-F5FD-496D-8ACA-BCED91F0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6D7-8D3A-47D1-93AF-22327698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C00-BA43-41C9-B57D-ECF26FA4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F135-B6CD-4617-BEF2-50E3DB75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29FF-E27E-468B-A2B1-1CBE085A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091D-511D-4DEC-A777-AE046254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D239-D1DD-464F-BFD9-A0979BED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A39D-1F43-4A76-BAD5-81A86F1B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F62C-3B46-418E-B29B-2888E938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1804-18F2-48D9-B5A3-FCB0ADC9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FE7-5085-4634-98CD-141E42EA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3FBC-D959-41F8-816E-5274E8AB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435B-525C-4612-9492-DB218BA4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240D-FE96-4ED1-9DA1-A194D1CB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65BC-0D95-405D-B499-EDB62A97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C218-F559-4748-932A-2521E337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5145-1921-4157-9F0F-797B154C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35DC9-5748-4872-A29D-0E1EE2B9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5AA20-1576-4271-A19F-978C12C1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20A5A-5130-4450-A7E0-B4F9C587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BB41-1E50-437D-84A4-ED7BCAEE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DDD-DC93-4C12-85F3-8D28B830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E4203-6ED1-428A-9CB2-A2756AD6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3B950-9B69-4256-918E-6D68C2EA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9D17-202D-482B-8C64-8C3732DC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4E15E-C628-4F26-99F8-DFEEAC4A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1553A-8D4F-4AF7-A816-CC8E02A4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04A6C-D8A9-42DA-9260-EA56C94E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FD53A-F19D-4A60-B902-FFB644E2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E3E42-E099-47C0-B193-230BF16B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6635C-F2DF-4A63-85B4-282A5707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E8941-567B-447C-9FED-12E2D5B6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76D-1C38-4A96-85B0-5D3C3EE7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2D86-7C58-49C5-ABDA-6AAE9A3F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767F7-C8B1-4A82-82B3-24A75349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3AEB7-4603-4944-899D-9E9BBF74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3BF5E-D7C3-47EB-A55C-8B033CE7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D650B-0635-42A1-BE30-3E474C61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64BD6-841F-48C5-9514-7DFAC558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6343B-38A2-411A-8E24-7D3F29CA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5C36E-E984-4582-8168-A0AE4205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F1CE8-EFF4-4628-85C5-017DAC24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8E3-C1B3-4ECE-ADEA-26876820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FC0-A4F1-4DA1-BE2F-40584964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E99-3D37-4B8F-8BCC-468A4BDA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F46A-9921-4385-9873-72C8E8CF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A61-E540-4F15-999B-B1D20F02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3502-CD1B-4C98-9B46-65894556BD4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A409-8954-4369-83DE-D632688C690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C0E4-3A11-4DEC-881F-C7D499E384D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BA0D-8D5F-44B3-8098-89F4F44341E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1103400"/>
            <a:ext cx="8632800" cy="2560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00720" y="3885840"/>
            <a:ext cx="3271680" cy="22575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втор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аняава  Виктория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ученица 4 е класса  НОШ  № 279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аучный  руководитель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ихайлова  И.А.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учитель  начальных  классов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9680" y="713880"/>
            <a:ext cx="818676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рактическая часть.</a:t>
            </a:r>
            <a:br>
              <a:rPr sz="32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Методика М. Люшера ( эмоциональное состояние, количество тревог в исследуемых группах (две выборки)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428760" y="1928880"/>
            <a:ext cx="5357520" cy="43578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Object 1" descr=""/>
          <p:cNvPicPr/>
          <p:nvPr/>
        </p:nvPicPr>
        <p:blipFill>
          <a:blip r:embed="rId2"/>
          <a:stretch/>
        </p:blipFill>
        <p:spPr>
          <a:xfrm>
            <a:off x="5857920" y="2643120"/>
            <a:ext cx="30718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актическая часть</a:t>
            </a:r>
            <a:br>
              <a:rPr sz="45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равнительный анализ годовых оценок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8229600" cy="17524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Object 1" descr=""/>
          <p:cNvPicPr/>
          <p:nvPr/>
        </p:nvPicPr>
        <p:blipFill>
          <a:blip r:embed="rId2"/>
          <a:stretch/>
        </p:blipFill>
        <p:spPr>
          <a:xfrm>
            <a:off x="285840" y="1928880"/>
            <a:ext cx="84294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 научном исследовании приняли участие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ащиеся  четвертых классов в количестве  32 челов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группы учащих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 группа- учащиеся ( 6 человек), занимающиеся в спортивных секция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группа- учащиеся (6 человек), не занимающиеся в спортивных секц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ыводы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Изучив  и  проанализировав   полученные  данные,  мы  выявили,  что  занятия  спортом  оказывают  </a:t>
            </a: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благотворное  влияние  </a:t>
            </a: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на  младшего  школьника. Четвероклассник,  занимающийся  не  первый  год  в  спортивной  секции </a:t>
            </a: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умеет  управлять  </a:t>
            </a: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своими  чувствами,  эмоциями, </a:t>
            </a: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учиться</a:t>
            </a: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  на  «отлично»  и  «хорошо»,  </a:t>
            </a: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активно  </a:t>
            </a: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участвует  в  школьной  жизни. Он  общительный, доброжелательный  и  успешный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актический  выход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овлечение  младших  школьников  в  спортивные  секции  по  интересам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Рисунок 3" descr="Рисунок4.jpg"/>
          <p:cNvPicPr/>
          <p:nvPr/>
        </p:nvPicPr>
        <p:blipFill>
          <a:blip r:embed="rId1"/>
          <a:stretch/>
        </p:blipFill>
        <p:spPr>
          <a:xfrm>
            <a:off x="1428840" y="3071880"/>
            <a:ext cx="6072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ерспективность  работ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альнейшее  изучение  влияния  занятий  спортом  на  развитие  младшего  школьни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928800" y="3286080"/>
            <a:ext cx="2643120" cy="30718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Рисунок3.jpg"/>
          <p:cNvPicPr/>
          <p:nvPr/>
        </p:nvPicPr>
        <p:blipFill>
          <a:blip r:embed="rId2"/>
          <a:stretch/>
        </p:blipFill>
        <p:spPr>
          <a:xfrm>
            <a:off x="3857760" y="3286080"/>
            <a:ext cx="5067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682560" y="1494000"/>
            <a:ext cx="8332920" cy="3492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856800" y="3885840"/>
            <a:ext cx="6915240" cy="22575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изучить  научную  литературу  по  данной  проблеме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- изучить  эмоциональные  данные  учащихся  четвертых  классов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- провести  сравнительный  анализ  учебной  деятельности  учащихся  четвертых  классов  за  прошлый  учебный  год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- систематизировать  полученные  данные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ктуальность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Младший  школьник  находится  на  пороге  перехода  в  подростковый  возраст, в 5-ый класс.  Поэтому  каждому  из  нас  необходимо  выработать  в  себе  такие  качества,  как: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успешность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, 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уверенность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амообладание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. При  этом  важно,  чтобы  младший  школьник  чувствовал  себя  комфортно в  новых  социальных  условиях, умел  распознавать  и  владеть  своими  чувствами, эмоция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ъект  исследования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Эмоциональное  отношение  младшего  школьника  к  занятиям  спорто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4" descr="Рисунок5.jpg"/>
          <p:cNvPicPr/>
          <p:nvPr/>
        </p:nvPicPr>
        <p:blipFill>
          <a:blip r:embed="rId1"/>
          <a:stretch/>
        </p:blipFill>
        <p:spPr>
          <a:xfrm>
            <a:off x="2500200" y="3357720"/>
            <a:ext cx="52149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едмет  исследов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лияние  занятий  спортом  на  развитие  младшего  школьни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Рисунок 4" descr="Рисунок6.jpg"/>
          <p:cNvPicPr/>
          <p:nvPr/>
        </p:nvPicPr>
        <p:blipFill>
          <a:blip r:embed="rId1"/>
          <a:stretch/>
        </p:blipFill>
        <p:spPr>
          <a:xfrm>
            <a:off x="785880" y="3000240"/>
            <a:ext cx="7353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одержание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00080"/>
            <a:ext cx="822960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Аннотация  к  научной  работ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 Теоретическая  часть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) краткий  анализ  литературы  по  данной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блем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) рекомендации по  выбору  спортивной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екции  по  темпераменту ребен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) позиция  автора  по  данной  т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.Практическая  часть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) опытная  проверка рабочей  гипотезы    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мощью  психологической  методики  М  Люшер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) сравнительный  анализ  учебной  деятельности  учащихся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4 – х  классов ( за  основу  взята годовая  отметка  за  прошлый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ебный  год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4. Заключение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5. Использованная  литератур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6. Приложение.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Позиция автора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: </a:t>
            </a:r>
            <a:br>
              <a:rPr sz="45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у меня есть спортивные достижения!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Содержимое 3" descr="Рисунок7.jpg"/>
          <p:cNvPicPr/>
          <p:nvPr/>
        </p:nvPicPr>
        <p:blipFill>
          <a:blip r:embed="rId1"/>
          <a:stretch/>
        </p:blipFill>
        <p:spPr>
          <a:xfrm>
            <a:off x="2857680" y="1935000"/>
            <a:ext cx="3429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Что мне дают занятия спортом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уверенность в себ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я успешн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учусь на «хорошо» и «отлично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у меня много друз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я редко боле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я позитивный человек, т.к. могу справиться с негативными чувств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0:00:16Z</dcterms:created>
  <dc:creator>Психолог</dc:creator>
  <dc:description/>
  <dc:language>en-US</dc:language>
  <cp:lastModifiedBy>user</cp:lastModifiedBy>
  <dcterms:modified xsi:type="dcterms:W3CDTF">2011-01-27T12:39:45Z</dcterms:modified>
  <cp:revision>16</cp:revision>
  <dc:subject/>
  <dc:title>Влияние  занятий  спортом на  развитие  младшего  школьника</dc:title>
</cp:coreProperties>
</file>